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History" id="0">
      <p:sldLst>
        <p:sld r:id="rId5"/>
      </p:sldLst>
    </p:custShow>
    <p:custShow name="Heart" id="1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488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04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048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524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660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524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660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048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30456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048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04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048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04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488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10800000">
            <a:off x="-360" y="1141920"/>
            <a:ext cx="1523880" cy="5715000"/>
          </a:xfrm>
          <a:prstGeom prst="rect">
            <a:avLst/>
          </a:prstGeom>
          <a:gradFill rotWithShape="0">
            <a:gsLst>
              <a:gs pos="0">
                <a:srgbClr val="575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 rot="10800000">
            <a:off x="8150040" y="0"/>
            <a:ext cx="99036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C51C916-50C7-40CE-AEB9-CF15EFE5A47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" name="Cigarette-Smoking-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35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3000"/>
            <a:ext cx="6477120" cy="1003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cc"/>
                </a:solidFill>
                <a:latin typeface="Arial"/>
              </a:rPr>
              <a:t>The Future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8120" y="2133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This presentation is </a:t>
            </a:r>
            <a:r>
              <a:rPr b="0" lang="en-GB" sz="3200" spc="-1" strike="noStrike">
                <a:solidFill>
                  <a:srgbClr val="3366ff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 to the menu slid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-Purp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Arial"/>
              </a:rPr>
              <a:t>The future #1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3366ff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 presentation of the futur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You can edit this presentation without affecting the menu or linking from the “menu” presentatio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Arial"/>
              </a:rPr>
              <a:t>The future #2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3366ff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 presentation of the futur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Click the “</a:t>
            </a:r>
            <a:r>
              <a:rPr b="0" lang="en-GB" sz="3200" spc="-1" strike="noStrike">
                <a:solidFill>
                  <a:srgbClr val="3366ff"/>
                </a:solidFill>
                <a:latin typeface="Arial"/>
              </a:rPr>
              <a:t>menu</a:t>
            </a:r>
            <a:r>
              <a:rPr b="0" lang="en-GB" sz="3200" spc="-1" strike="noStrike">
                <a:solidFill>
                  <a:srgbClr val="0000cc"/>
                </a:solidFill>
                <a:latin typeface="Arial"/>
              </a:rPr>
              <a:t>” button to exit this presentatio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4" name="B-Purp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2-05-14T12:53:46Z</dcterms:modified>
  <cp:revision>67</cp:revision>
  <dc:subject/>
  <dc:title>Awesome PowerPoint Background Template</dc:title>
</cp:coreProperties>
</file>