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History" id="0">
      <p:sldLst>
        <p:sld r:id="rId5"/>
      </p:sldLst>
    </p:custShow>
    <p:custShow name="Heart" id="1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91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325760"/>
            <a:ext cx="7391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6160" y="205704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3257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016160" y="43257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28080" y="205704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27200" y="205704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32576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728080" y="432576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227200" y="4325760"/>
            <a:ext cx="237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016160" y="205704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391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205704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3257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60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16160" y="205704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16160" y="432576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6160" y="2057040"/>
            <a:ext cx="360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325760"/>
            <a:ext cx="7391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254a6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igarette-Smoking-01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254a6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371600" y="1219320"/>
            <a:ext cx="5105520" cy="1752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c51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780200" y="1476000"/>
            <a:ext cx="4287240" cy="12391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c66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3962160"/>
            <a:ext cx="4724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resentation i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the menu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254a6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moking and heart disease #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resentation of the smoking and heart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an edit this presentation without affecting the menu or linking from the “menu”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B-Cyan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6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254a6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moking and heart disease #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resentation of the smoking and heart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 the 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nu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 button to exit this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B-Cyan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2-05-14T13:00:11Z</dcterms:modified>
  <cp:revision>67</cp:revision>
  <dc:subject/>
  <dc:title>Awesome PowerPoint Background Template</dc:title>
</cp:coreProperties>
</file>