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  <p:custShowLst>
    <p:custShow name="History" id="0">
      <p:sldLst>
        <p:sld r:id="rId5"/>
      </p:sldLst>
    </p:custShow>
    <p:custShow name="Heart" id="1">
      <p:sldLst>
        <p:sld r:id="rId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534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520" y="3944880"/>
            <a:ext cx="8534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4164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4160" y="1676160"/>
            <a:ext cx="4164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520" y="3944880"/>
            <a:ext cx="4164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4160" y="3944880"/>
            <a:ext cx="4164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66280" y="167616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51680" y="167616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520" y="394488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66280" y="394488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51680" y="394488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520" y="167616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4164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4160" y="1676160"/>
            <a:ext cx="4164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5345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4164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4160" y="1676160"/>
            <a:ext cx="4164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520" y="3944880"/>
            <a:ext cx="4164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4164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4160" y="1676160"/>
            <a:ext cx="4164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4160" y="3944880"/>
            <a:ext cx="4164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4164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4160" y="1676160"/>
            <a:ext cx="4164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520" y="3944880"/>
            <a:ext cx="8534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76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cc"/>
                </a:solidFill>
                <a:latin typeface="Arial"/>
              </a:rPr>
              <a:t>Slide </a:t>
            </a:r>
            <a:fld id="{9080210B-1C1A-483E-935C-7E3EB6B368CC}" type="slidenum">
              <a:rPr b="0" lang="en-GB" sz="14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" name="Cigarette-Smoking-0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520" y="167616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assclk2.wav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assclk2.wav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gradFill rotWithShape="0">
            <a:gsLst>
              <a:gs pos="0">
                <a:srgbClr val="143c14"/>
              </a:gs>
              <a:gs pos="100000">
                <a:srgbClr val="33993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6248520" cy="8380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94c19"/>
              </a:gs>
            </a:gsLst>
            <a:lin ang="13500000"/>
          </a:gradFill>
          <a:ln w="0">
            <a:noFill/>
          </a:ln>
        </p:spPr>
        <p:txBody>
          <a:bodyPr lIns="36000" rIns="36000" tIns="46800" bIns="46800" anchor="ctr">
            <a:no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Smoking and Pregnancy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880" y="1599840"/>
            <a:ext cx="42674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is presentation is 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linked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to the menu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Smoking and pregnancy #1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is is the 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linked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presentation of the smoking and pregna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You can edit this presentation without affecting the menu or linking from the “menu” pres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7760" y="650556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MEN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B-Gree" descr="">
            <a:hlinkClick r:id="" action="ppaction://hlinkshowjump?jump=endshow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29600" y="571500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Smoking and pregnancy #2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is is the 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linked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presentation of the smoking and pregna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lick the “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menu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” button to exit this pres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267760" y="650556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MEN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B-Gree" descr="">
            <a:hlinkClick r:id="" action="ppaction://hlinkshowjump?jump=endshow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29600" y="571500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11:52:41Z</dcterms:created>
  <dc:creator>TAJ Simmons</dc:creator>
  <dc:description>From
www.awesomebackgrounds.com   </dc:description>
  <dc:language>en-US</dc:language>
  <cp:lastModifiedBy>TAJ Simmons</cp:lastModifiedBy>
  <dcterms:modified xsi:type="dcterms:W3CDTF">2002-05-14T12:55:17Z</dcterms:modified>
  <cp:revision>67</cp:revision>
  <dc:subject/>
  <dc:title>Awesome PowerPoint Background Template</dc:title>
</cp:coreProperties>
</file>