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History" id="0">
      <p:sldLst>
        <p:sld r:id="rId5"/>
      </p:sldLst>
    </p:custShow>
    <p:custShow name="Heart" id="1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394488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144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394488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11440" y="394488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23360" y="16761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2480" y="16761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394488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23360" y="394488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2480" y="394488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11440" y="167616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30456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11440" y="167616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394488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144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11440" y="394488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1440" y="16761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394488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92888E86-5CDA-4AB4-A9FA-B3D300E29A80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Cigarette-Smoking-0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76520" y="1981080"/>
            <a:ext cx="70866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5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11880" y="2116440"/>
            <a:ext cx="6815520" cy="1100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f0000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History of Smok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81080" y="42667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resentation i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the menu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990720"/>
            <a:ext cx="7620120" cy="759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history of smoking #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history of 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an edit this presentation without affecting the menu or linking from the “menu”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B-Red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990720"/>
            <a:ext cx="7620120" cy="759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history of smoking #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history of 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 the 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nu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 button to exit this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B-Red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2-05-14T12:43:19Z</dcterms:modified>
  <cp:revision>66</cp:revision>
  <dc:subject/>
  <dc:title>Awesome PowerPoint Background Template</dc:title>
</cp:coreProperties>
</file>