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History" id="0">
      <p:sldLst>
        <p:sld r:id="rId8"/>
        <p:sld r:id="rId9"/>
      </p:sldLst>
    </p:custShow>
    <p:custShow name="Heart" id="1">
      <p:sldLst>
        <p:sld r:id="rId10"/>
        <p:sld r:id="rId11"/>
      </p:sldLst>
    </p:custShow>
    <p:custShow name="Pregnancy" id="2">
      <p:sldLst>
        <p:sld r:id="rId12"/>
        <p:sld r:id="rId13"/>
      </p:sldLst>
    </p:custShow>
    <p:custShow name="Future" id="3">
      <p:sldLst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F584BCC7-DEC2-4602-8BF0-9548441264AE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Cigarette-Smoking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2.wa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2.wav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2.wav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r.wav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bassclkr.wav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tmp/home/.config/libreoffice/4/user/gallery/bassclkr.wav" TargetMode="External"/><Relationship Id="rId6" Type="http://schemas.openxmlformats.org/officeDocument/2006/relationships/image" Target="../media/image3.png"/><Relationship Id="rId7" Type="http://schemas.openxmlformats.org/officeDocument/2006/relationships/hyperlink" Target="file:///tmp/home/.config/libreoffice/4/user/gallery/bassclkr.wav" TargetMode="External"/><Relationship Id="rId8" Type="http://schemas.openxmlformats.org/officeDocument/2006/relationships/image" Target="../media/image5.png"/><Relationship Id="rId9" Type="http://schemas.openxmlformats.org/officeDocument/2006/relationships/hyperlink" Target="file:///tmp/home/.config/libreoffice/4/user/gallery/bassclkr.wav" TargetMode="Externa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r.wav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bassclkr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r.wav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bassclkr.wav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tmp/home/.config/libreoffice/4/user/gallery/bassclkr.wav" TargetMode="External"/><Relationship Id="rId6" Type="http://schemas.openxmlformats.org/officeDocument/2006/relationships/image" Target="../media/image3.png"/><Relationship Id="rId7" Type="http://schemas.openxmlformats.org/officeDocument/2006/relationships/hyperlink" Target="file:///tmp/home/.config/libreoffice/4/user/gallery/bassclkr.wav" TargetMode="External"/><Relationship Id="rId8" Type="http://schemas.openxmlformats.org/officeDocument/2006/relationships/image" Target="../media/image5.png"/><Relationship Id="rId9" Type="http://schemas.openxmlformats.org/officeDocument/2006/relationships/hyperlink" Target="file:///tmp/home/.config/libreoffice/4/user/gallery/bassclkr.wav" TargetMode="Externa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066680" y="304920"/>
            <a:ext cx="70866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202400" y="439920"/>
            <a:ext cx="6815520" cy="1100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enu” Tutori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tutorial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B-Gree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5e17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moking and pregnancy #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cc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r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age of the smoking and pregnancy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5e17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moking and pregnancy #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cc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con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age of the smoking and pregnancy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B-Gre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B-Purp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5e0075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future #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cc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r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age of the future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5e0075"/>
              </a:gs>
              <a:gs pos="100000">
                <a:srgbClr val="cc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future #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cc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con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age of the future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-Purp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19520" y="2286000"/>
            <a:ext cx="3504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2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160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752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is method is best for . . 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nger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ations that do not adhere to one slide master for all the slides, so you can use multiple temp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en the number of slides will change frequ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ding a menu for a live presentation, that presenters can control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ding a great start-up menu screen, so that people can interactively select what presentations to view. It adds a very professional touch for post conference 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1676520"/>
            <a:ext cx="2971800" cy="4419360"/>
          </a:xfrm>
          <a:custGeom>
            <a:avLst/>
            <a:gdLst/>
            <a:ahLst/>
            <a:rect l="l" t="t" r="r" b="b"/>
            <a:pathLst>
              <a:path w="2496" h="3101">
                <a:moveTo>
                  <a:pt x="24" y="0"/>
                </a:moveTo>
                <a:cubicBezTo>
                  <a:pt x="0" y="1072"/>
                  <a:pt x="146" y="1485"/>
                  <a:pt x="554" y="2074"/>
                </a:cubicBezTo>
                <a:cubicBezTo>
                  <a:pt x="962" y="2663"/>
                  <a:pt x="1340" y="2889"/>
                  <a:pt x="2496" y="3101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lease Make A Selec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B-Red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95280"/>
            <a:ext cx="1319400" cy="1319400"/>
          </a:xfrm>
          <a:prstGeom prst="rect">
            <a:avLst/>
          </a:prstGeom>
          <a:ln w="0">
            <a:noFill/>
          </a:ln>
        </p:spPr>
      </p:pic>
      <p:pic>
        <p:nvPicPr>
          <p:cNvPr id="124" name="B-Cyan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2895480"/>
            <a:ext cx="1319400" cy="1319400"/>
          </a:xfrm>
          <a:prstGeom prst="rect">
            <a:avLst/>
          </a:prstGeom>
          <a:ln w="0">
            <a:noFill/>
          </a:ln>
        </p:spPr>
      </p:pic>
      <p:pic>
        <p:nvPicPr>
          <p:cNvPr id="125" name="B-Gree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7920" y="4419720"/>
            <a:ext cx="1320840" cy="1319040"/>
          </a:xfrm>
          <a:prstGeom prst="rect">
            <a:avLst/>
          </a:prstGeom>
          <a:ln w="0">
            <a:noFill/>
          </a:ln>
        </p:spPr>
      </p:pic>
      <p:pic>
        <p:nvPicPr>
          <p:cNvPr id="126" name="B-Purp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5386320"/>
            <a:ext cx="1319040" cy="1319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1600200"/>
            <a:ext cx="495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history of smo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3124080"/>
            <a:ext cx="5791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moking and heart dis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4572000"/>
            <a:ext cx="5334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moking and pregna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57150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fu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-Quit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238960" y="5715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7712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995160" y="2910600"/>
            <a:ext cx="335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cc"/>
                </a:solidFill>
                <a:latin typeface="Arial"/>
              </a:rPr>
              <a:t>LINK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redi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igned by </a:t>
            </a:r>
            <a:br>
              <a:rPr sz="3200"/>
            </a:b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www.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awesomebackgrounds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image is a free sample from</a:t>
            </a:r>
            <a:br>
              <a:rPr sz="3200"/>
            </a:b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www.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awesomebackgrounds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324480" y="5105520"/>
            <a:ext cx="3124440" cy="1218960"/>
          </a:xfrm>
          <a:prstGeom prst="leftArrow">
            <a:avLst>
              <a:gd name="adj1" fmla="val 50000"/>
              <a:gd name="adj2" fmla="val 64080"/>
            </a:avLst>
          </a:pr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10800000"/>
          </a:gra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bout This Tutoria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tutorial demonstrates how you can create your own “menu” in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hod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umping within the same presentation using “custom shows”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hod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umping to other presentations using the “linking”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B-Red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029200"/>
            <a:ext cx="1319040" cy="1319040"/>
          </a:xfrm>
          <a:prstGeom prst="rect">
            <a:avLst/>
          </a:prstGeom>
          <a:ln w="0">
            <a:noFill/>
          </a:ln>
        </p:spPr>
      </p:pic>
      <p:pic>
        <p:nvPicPr>
          <p:cNvPr id="48" name="B-Gree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5029200"/>
            <a:ext cx="1320840" cy="1319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64008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 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64008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 Tw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561024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ease make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19520" y="2286000"/>
            <a:ext cx="3504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2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7160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752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419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is method is best for . . 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15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rter pres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l the slides using the same slide m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umber of slides will not change that of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1676520"/>
            <a:ext cx="2971800" cy="4419360"/>
          </a:xfrm>
          <a:custGeom>
            <a:avLst/>
            <a:gdLst/>
            <a:ahLst/>
            <a:rect l="l" t="t" r="r" b="b"/>
            <a:pathLst>
              <a:path w="2496" h="3101">
                <a:moveTo>
                  <a:pt x="24" y="0"/>
                </a:moveTo>
                <a:cubicBezTo>
                  <a:pt x="0" y="1072"/>
                  <a:pt x="146" y="1485"/>
                  <a:pt x="554" y="2074"/>
                </a:cubicBezTo>
                <a:cubicBezTo>
                  <a:pt x="962" y="2663"/>
                  <a:pt x="1340" y="2889"/>
                  <a:pt x="2496" y="3101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lease Make A Selec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B-Red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95280"/>
            <a:ext cx="1319400" cy="1319400"/>
          </a:xfrm>
          <a:prstGeom prst="rect">
            <a:avLst/>
          </a:prstGeom>
          <a:ln w="0">
            <a:noFill/>
          </a:ln>
        </p:spPr>
      </p:pic>
      <p:pic>
        <p:nvPicPr>
          <p:cNvPr id="63" name="B-Cyan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2895480"/>
            <a:ext cx="1319400" cy="1319400"/>
          </a:xfrm>
          <a:prstGeom prst="rect">
            <a:avLst/>
          </a:prstGeom>
          <a:ln w="0">
            <a:noFill/>
          </a:ln>
        </p:spPr>
      </p:pic>
      <p:pic>
        <p:nvPicPr>
          <p:cNvPr id="64" name="B-Gree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7920" y="4419720"/>
            <a:ext cx="132084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B-Purp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05320" y="5386320"/>
            <a:ext cx="1319040" cy="1319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1600200"/>
            <a:ext cx="495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history of smo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3124080"/>
            <a:ext cx="5791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moking and heart dis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5334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moking and pregna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57150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fu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B-Quit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238960" y="5715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7712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6995160" y="2910600"/>
            <a:ext cx="335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cc"/>
                </a:solidFill>
                <a:latin typeface="Arial"/>
              </a:rPr>
              <a:t>CUSTO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history of smoking #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r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age of the history of smoking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B-Red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history of smoking #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con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age of the history of smoking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B-Red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-Cyan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moking and heart disease #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r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age of the smoking and heart disease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moking and heart disease #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econ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age of the smoking and heart disease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B-Cyan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05-05-19T16:52:58Z</dcterms:modified>
  <cp:revision>71</cp:revision>
  <dc:subject/>
  <dc:title>Awesome PowerPoint Background Template</dc:title>
</cp:coreProperties>
</file>