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6645240"/>
            <a:ext cx="487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 Free sample powerpoint background from www.awesomebackgrounds.co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25184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© 2001 By Default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076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Slide </a:t>
            </a:r>
            <a:fld id="{BF535085-BCE9-4E9F-AC77-5D8F55BD08AF}" type="slidenum">
              <a:rPr b="0" lang="en-GB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" name="Help-01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66ff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562720" y="685800"/>
            <a:ext cx="327636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43c65"/>
              </a:gs>
              <a:gs pos="100000">
                <a:srgbClr val="339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690160" y="813600"/>
            <a:ext cx="3020760" cy="963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194c7f"/>
              </a:gs>
            </a:gsLst>
            <a:lin ang="13500000"/>
          </a:gradFill>
          <a:ln w="0">
            <a:noFill/>
          </a:ln>
        </p:spPr>
        <p:txBody>
          <a:bodyPr lIns="0" rIns="0" tIns="46800" bIns="46800" anchor="ctr" anchorCtr="1">
            <a:no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ransparency”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utorial</a:t>
            </a:r>
            <a:endParaRPr b="1" lang="en-US" sz="28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lcome to this tutorial fr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ww.awesomebackgrounds.co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 hope you enjoy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About This Tutorial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2200"/>
              </a:spcBef>
              <a:buClr>
                <a:srgbClr val="66ff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s tutorial demonstrates the 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ransparency effects in power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200"/>
              </a:spcBef>
              <a:buClr>
                <a:srgbClr val="66ff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ethod 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9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easy w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200"/>
              </a:spcBef>
              <a:buClr>
                <a:srgbClr val="66ff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ethod Tw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9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hard w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Method One - Part 1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88000"/>
          </a:bodyPr>
          <a:p>
            <a:pPr marL="301680" indent="-301680">
              <a:lnSpc>
                <a:spcPct val="85000"/>
              </a:lnSpc>
              <a:spcBef>
                <a:spcPts val="2200"/>
              </a:spcBef>
              <a:buClr>
                <a:srgbClr val="66ff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s page shows an image that has had an area selected to be transparent by using powerpoint’s inbuilt “set transparent color” selecter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5000"/>
              </a:lnSpc>
              <a:spcBef>
                <a:spcPts val="2200"/>
              </a:spcBef>
              <a:buClr>
                <a:srgbClr val="66ff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tice the unwanted arti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logo-grey" descr=""/>
          <p:cNvPicPr/>
          <p:nvPr/>
        </p:nvPicPr>
        <p:blipFill>
          <a:blip r:embed="rId1"/>
          <a:stretch/>
        </p:blipFill>
        <p:spPr>
          <a:xfrm>
            <a:off x="1295280" y="4495680"/>
            <a:ext cx="6553440" cy="11098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Method One - Part 2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88000"/>
          </a:bodyPr>
          <a:p>
            <a:pPr marL="301680" indent="-301680">
              <a:lnSpc>
                <a:spcPct val="85000"/>
              </a:lnSpc>
              <a:spcBef>
                <a:spcPts val="2200"/>
              </a:spcBef>
              <a:buClr>
                <a:srgbClr val="66ff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s page shows an image that has had an area selected to be transparent by using powerpoint’s inbuilt “set transparent color” selecter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5000"/>
              </a:lnSpc>
              <a:spcBef>
                <a:spcPts val="2200"/>
              </a:spcBef>
              <a:buClr>
                <a:srgbClr val="66ff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unwanted artifact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logo-blue2" descr=""/>
          <p:cNvPicPr/>
          <p:nvPr/>
        </p:nvPicPr>
        <p:blipFill>
          <a:blip r:embed="rId1"/>
          <a:stretch/>
        </p:blipFill>
        <p:spPr>
          <a:xfrm>
            <a:off x="1295280" y="4495680"/>
            <a:ext cx="6553440" cy="11098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Method Two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2200"/>
              </a:spcBef>
              <a:buClr>
                <a:srgbClr val="66ff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s page shows an image that has the transparency information within the bitmap itsel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t5-alpha-1" descr=""/>
          <p:cNvPicPr/>
          <p:nvPr/>
        </p:nvPicPr>
        <p:blipFill>
          <a:blip r:embed="rId1"/>
          <a:stretch/>
        </p:blipFill>
        <p:spPr>
          <a:xfrm>
            <a:off x="1257480" y="4495680"/>
            <a:ext cx="6629400" cy="1123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Method Two - Uses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419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2200"/>
              </a:spcBef>
              <a:buClr>
                <a:srgbClr val="66ff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s page shows some of the many uses for this clever techniq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t5-2vert" descr=""/>
          <p:cNvPicPr/>
          <p:nvPr/>
        </p:nvPicPr>
        <p:blipFill>
          <a:blip r:embed="rId1"/>
          <a:stretch/>
        </p:blipFill>
        <p:spPr>
          <a:xfrm>
            <a:off x="5486400" y="1219320"/>
            <a:ext cx="3181320" cy="4848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9" name="t5-1circle" descr=""/>
          <p:cNvPicPr/>
          <p:nvPr/>
        </p:nvPicPr>
        <p:blipFill>
          <a:blip r:embed="rId2"/>
          <a:stretch/>
        </p:blipFill>
        <p:spPr>
          <a:xfrm>
            <a:off x="1295280" y="3352680"/>
            <a:ext cx="3181320" cy="3162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52280" y="441972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99ff"/>
                </a:solidFill>
                <a:latin typeface="Arial"/>
              </a:rPr>
              <a:t>Soft</a:t>
            </a:r>
            <a:br>
              <a:rPr sz="2400"/>
            </a:br>
            <a:r>
              <a:rPr b="0" lang="en-GB" sz="2400" spc="-1" strike="noStrike">
                <a:solidFill>
                  <a:srgbClr val="3399ff"/>
                </a:solidFill>
                <a:latin typeface="Arial"/>
              </a:rPr>
              <a:t>edge</a:t>
            </a:r>
            <a:br>
              <a:rPr sz="2400"/>
            </a:br>
            <a:r>
              <a:rPr b="0" lang="en-GB" sz="2400" spc="-1" strike="noStrike">
                <a:solidFill>
                  <a:srgbClr val="3399ff"/>
                </a:solidFill>
                <a:latin typeface="Arial"/>
              </a:rPr>
              <a:t>eff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86400" y="60958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99ff"/>
                </a:solidFill>
                <a:latin typeface="Arial"/>
              </a:rPr>
              <a:t>Fade out eff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Comparison of Various Methods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5029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52000"/>
          </a:bodyPr>
          <a:p>
            <a:pPr indent="0" algn="ctr">
              <a:lnSpc>
                <a:spcPct val="85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s page shows a comparison of transparency using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method 1 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s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method 2 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s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vector graph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52880" y="419112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99ff"/>
                </a:solidFill>
                <a:latin typeface="Arial"/>
              </a:rPr>
              <a:t>Logo using method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" name="t5-logo-method1" descr=""/>
          <p:cNvPicPr/>
          <p:nvPr/>
        </p:nvPicPr>
        <p:blipFill>
          <a:blip r:embed="rId1"/>
          <a:stretch/>
        </p:blipFill>
        <p:spPr>
          <a:xfrm>
            <a:off x="5310360" y="1676520"/>
            <a:ext cx="3323880" cy="5713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952880" y="232740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99ff"/>
                </a:solidFill>
                <a:latin typeface="Arial"/>
              </a:rPr>
              <a:t>Logo using method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t5-logo-method2" descr=""/>
          <p:cNvPicPr/>
          <p:nvPr/>
        </p:nvPicPr>
        <p:blipFill>
          <a:blip r:embed="rId2"/>
          <a:stretch/>
        </p:blipFill>
        <p:spPr>
          <a:xfrm>
            <a:off x="5310360" y="3543480"/>
            <a:ext cx="3323880" cy="5713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351400" y="5321160"/>
            <a:ext cx="3241800" cy="4842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952880" y="58672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99ff"/>
                </a:solidFill>
                <a:latin typeface="Arial"/>
              </a:rPr>
              <a:t>Logo using vector graph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Credits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4000"/>
              </a:spcBef>
              <a:buClr>
                <a:srgbClr val="66ff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signed by </a:t>
            </a:r>
            <a:br>
              <a:rPr sz="3200"/>
            </a:b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www.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awesomebackgrounds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000"/>
              </a:spcBef>
              <a:buClr>
                <a:srgbClr val="66ff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ackground image is a free sample from</a:t>
            </a:r>
            <a:br>
              <a:rPr sz="3200"/>
            </a:b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www.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awesomebackgrounds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awesomebackgrounds.com
Messages do not appear on the full product.</dc:description>
  <dc:language>en-US</dc:language>
  <cp:lastModifiedBy>TAJ Simmons</cp:lastModifiedBy>
  <dcterms:modified xsi:type="dcterms:W3CDTF">2005-05-19T16:52:12Z</dcterms:modified>
  <cp:revision>51</cp:revision>
  <dc:subject/>
  <dc:title>Free Sample Awesome PowerPoint Background Template</dc:title>
</cp:coreProperties>
</file>