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nflict.wav" ContentType="audio/x-wav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6645240"/>
            <a:ext cx="487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99"/>
                </a:solidFill>
                <a:latin typeface="Arial"/>
              </a:rPr>
              <a:t>A Free sample background from www.awesomebackgrounds.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5184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© 2001 By Default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Chain-Links-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551c7"/>
                </a:solidFill>
                <a:latin typeface="Arial"/>
              </a:rPr>
              <a:t>Slide </a:t>
            </a:r>
            <a:fld id="{53C8AC77-14D4-4A91-BAE9-0BCC7C87D1F1}" type="slidenum">
              <a:rPr b="0" lang="en-GB" sz="1400" spc="-1" strike="noStrike">
                <a:solidFill>
                  <a:srgbClr val="3551c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inflict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1143000"/>
            <a:ext cx="3353040" cy="160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165"/>
              </a:gs>
              <a:gs pos="100000">
                <a:srgbClr val="67a5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23240" y="1484640"/>
            <a:ext cx="2668320" cy="916200"/>
          </a:xfrm>
          <a:prstGeom prst="rect">
            <a:avLst/>
          </a:prstGeom>
          <a:gradFill rotWithShape="0">
            <a:gsLst>
              <a:gs pos="0">
                <a:srgbClr val="67a5ff"/>
              </a:gs>
              <a:gs pos="100000">
                <a:srgbClr val="33527f"/>
              </a:gs>
            </a:gsLst>
            <a:lin ang="13500000"/>
          </a:gradFill>
          <a:ln w="0">
            <a:noFill/>
          </a:ln>
        </p:spPr>
        <p:txBody>
          <a:bodyPr lIns="36000" rIns="36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ext Effects</a:t>
            </a:r>
            <a:endParaRPr b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23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lcome to this tutorial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ope you enjo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awesom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480" y="853920"/>
            <a:ext cx="45392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designe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225520"/>
            <a:ext cx="9334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69440" y="3200400"/>
            <a:ext cx="66499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9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480" y="853920"/>
            <a:ext cx="45392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designe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25520"/>
            <a:ext cx="9334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69440" y="3200400"/>
            <a:ext cx="66499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9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86200" y="2003400"/>
            <a:ext cx="12398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82440" y="3277800"/>
            <a:ext cx="536976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get your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00" y="4669920"/>
            <a:ext cx="322236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08120" y="4670280"/>
            <a:ext cx="43790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acros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1320" y="457200"/>
            <a:ext cx="40471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8920" y="457200"/>
            <a:ext cx="206568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51600" y="4669920"/>
            <a:ext cx="322236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11320" y="457200"/>
            <a:ext cx="40471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62920" y="6886080"/>
            <a:ext cx="26434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9840" y="2438280"/>
            <a:ext cx="492156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58640" y="1295280"/>
            <a:ext cx="912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8360" y="1295280"/>
            <a:ext cx="912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7720" y="1295280"/>
            <a:ext cx="8208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5280" y="1295280"/>
            <a:ext cx="8208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8520" y="2714760"/>
            <a:ext cx="4564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3480" y="2714760"/>
            <a:ext cx="912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0640" y="3905280"/>
            <a:ext cx="912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72960" y="3905280"/>
            <a:ext cx="8208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3480" y="3905280"/>
            <a:ext cx="912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78800" y="1143360"/>
            <a:ext cx="81770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67a5ff"/>
                </a:solidFill>
                <a:latin typeface="Arial"/>
              </a:rPr>
              <a:t>the power to</a:t>
            </a:r>
            <a:br>
              <a:rPr sz="11700"/>
            </a:br>
            <a:r>
              <a:rPr b="0" lang="en-GB" sz="11700" spc="-1" strike="noStrike">
                <a:solidFill>
                  <a:srgbClr val="67a5ff"/>
                </a:solidFill>
                <a:latin typeface="Arial"/>
              </a:rPr>
              <a:t>get your</a:t>
            </a:r>
            <a:br>
              <a:rPr sz="11700"/>
            </a:br>
            <a:r>
              <a:rPr b="0" lang="en-GB" sz="11700" spc="-1" strike="noStrike">
                <a:solidFill>
                  <a:srgbClr val="67a5ff"/>
                </a:solidFill>
                <a:latin typeface="Arial"/>
              </a:rPr>
              <a:t>point acros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" y="1143360"/>
            <a:ext cx="81770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9900"/>
                </a:solidFill>
                <a:latin typeface="Arial"/>
              </a:rPr>
              <a:t>the power to</a:t>
            </a:r>
            <a:br>
              <a:rPr sz="11700"/>
            </a:br>
            <a:r>
              <a:rPr b="0" lang="en-GB" sz="11700" spc="-1" strike="noStrike">
                <a:solidFill>
                  <a:srgbClr val="ff9900"/>
                </a:solidFill>
                <a:latin typeface="Arial"/>
              </a:rPr>
              <a:t>get your</a:t>
            </a:r>
            <a:br>
              <a:rPr sz="11700"/>
            </a:br>
            <a:r>
              <a:rPr b="0" lang="en-GB" sz="11700" spc="-1" strike="noStrike">
                <a:solidFill>
                  <a:srgbClr val="ff9900"/>
                </a:solidFill>
                <a:latin typeface="Arial"/>
              </a:rPr>
              <a:t>point acros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" y="1143360"/>
            <a:ext cx="81770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0000"/>
                </a:solidFill>
                <a:latin typeface="Arial"/>
              </a:rPr>
              <a:t>the power to</a:t>
            </a:r>
            <a:br>
              <a:rPr sz="11700"/>
            </a:br>
            <a:r>
              <a:rPr b="0" lang="en-GB" sz="11700" spc="-1" strike="noStrike">
                <a:solidFill>
                  <a:srgbClr val="ff0000"/>
                </a:solidFill>
                <a:latin typeface="Arial"/>
              </a:rPr>
              <a:t>get your</a:t>
            </a:r>
            <a:br>
              <a:rPr sz="11700"/>
            </a:br>
            <a:r>
              <a:rPr b="0" lang="en-GB" sz="11700" spc="-1" strike="noStrike">
                <a:solidFill>
                  <a:srgbClr val="ff0000"/>
                </a:solidFill>
                <a:latin typeface="Arial"/>
              </a:rPr>
              <a:t>point acros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" y="1143360"/>
            <a:ext cx="81770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the power to</a:t>
            </a:r>
            <a:br>
              <a:rPr sz="11700"/>
            </a:b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get your</a:t>
            </a:r>
            <a:br>
              <a:rPr sz="11700"/>
            </a:b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point acros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54560" y="0"/>
            <a:ext cx="1584360" cy="6865920"/>
          </a:xfrm>
          <a:custGeom>
            <a:avLst/>
            <a:gdLst/>
            <a:ahLst/>
            <a:rect l="l" t="t" r="r" b="b"/>
            <a:pathLst>
              <a:path w="998" h="4325">
                <a:moveTo>
                  <a:pt x="1" y="4320"/>
                </a:moveTo>
                <a:lnTo>
                  <a:pt x="865" y="0"/>
                </a:lnTo>
                <a:lnTo>
                  <a:pt x="998" y="0"/>
                </a:lnTo>
                <a:lnTo>
                  <a:pt x="140" y="4325"/>
                </a:lnTo>
                <a:lnTo>
                  <a:pt x="0" y="4325"/>
                </a:lnTo>
                <a:lnTo>
                  <a:pt x="1" y="432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54560" y="0"/>
            <a:ext cx="1584360" cy="6865920"/>
          </a:xfrm>
          <a:custGeom>
            <a:avLst/>
            <a:gdLst/>
            <a:ahLst/>
            <a:rect l="l" t="t" r="r" b="b"/>
            <a:pathLst>
              <a:path w="998" h="4325">
                <a:moveTo>
                  <a:pt x="1" y="4320"/>
                </a:moveTo>
                <a:lnTo>
                  <a:pt x="865" y="0"/>
                </a:lnTo>
                <a:lnTo>
                  <a:pt x="998" y="0"/>
                </a:lnTo>
                <a:lnTo>
                  <a:pt x="140" y="4325"/>
                </a:lnTo>
                <a:lnTo>
                  <a:pt x="0" y="4325"/>
                </a:lnTo>
                <a:lnTo>
                  <a:pt x="1" y="4320"/>
                </a:lnTo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efefe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4640" y="3428640"/>
            <a:ext cx="47905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7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1680" y="2091960"/>
            <a:ext cx="23126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7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14640" y="3428640"/>
            <a:ext cx="47905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7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1680" y="2091960"/>
            <a:ext cx="231264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17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4638600"/>
            <a:ext cx="777240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7a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3197160"/>
            <a:ext cx="8077320" cy="75960"/>
            <a:chOff x="457200" y="3197160"/>
            <a:chExt cx="8077320" cy="75960"/>
          </a:xfrm>
        </p:grpSpPr>
        <p:sp>
          <p:nvSpPr>
            <p:cNvPr id="115" name=""/>
            <p:cNvSpPr/>
            <p:nvPr/>
          </p:nvSpPr>
          <p:spPr>
            <a:xfrm>
              <a:off x="457200" y="3197160"/>
              <a:ext cx="2590920" cy="75960"/>
            </a:xfrm>
            <a:prstGeom prst="rect">
              <a:avLst/>
            </a:prstGeom>
            <a:gradFill rotWithShape="0">
              <a:gsLst>
                <a:gs pos="0">
                  <a:srgbClr val="67a5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3920" y="3197160"/>
              <a:ext cx="4800600" cy="75960"/>
            </a:xfrm>
            <a:prstGeom prst="rect">
              <a:avLst/>
            </a:prstGeom>
            <a:gradFill rotWithShape="0">
              <a:gsLst>
                <a:gs pos="0">
                  <a:srgbClr val="67a5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67560" y="1981080"/>
            <a:ext cx="8446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600" spc="-1" strike="noStrike">
                <a:solidFill>
                  <a:srgbClr val="ffffff"/>
                </a:solidFill>
                <a:latin typeface="Arial"/>
              </a:rPr>
              <a:t>design better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5600" y="3432240"/>
            <a:ext cx="9055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10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1294560" y="-1218960"/>
            <a:ext cx="694692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94560" y="6905880"/>
            <a:ext cx="694692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scrolling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Copy%20of%20alpha-title-01-bot2" descr=""/>
          <p:cNvPicPr/>
          <p:nvPr/>
        </p:nvPicPr>
        <p:blipFill>
          <a:blip r:embed="rId1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122" name="Copy%20of%20alpha-title-01-top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bout This Tutorial</a:t>
            </a: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tutorial demonstrates the wide amount of ways in which text and other objects can be animated on and off the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the effects are achieved by using standard powerpoint 97/2000 w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just used our awesome imag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se techniques are great for exhibition stands and conference ope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v6-all05-onblue" descr=""/>
          <p:cNvPicPr/>
          <p:nvPr/>
        </p:nvPicPr>
        <p:blipFill>
          <a:blip r:embed="rId1"/>
          <a:stretch/>
        </p:blipFill>
        <p:spPr>
          <a:xfrm>
            <a:off x="-9220320" y="5421240"/>
            <a:ext cx="9144000" cy="1131840"/>
          </a:xfrm>
          <a:prstGeom prst="rect">
            <a:avLst/>
          </a:prstGeom>
          <a:ln w="0">
            <a:noFill/>
          </a:ln>
        </p:spPr>
      </p:pic>
      <p:pic>
        <p:nvPicPr>
          <p:cNvPr id="49" name="v6-all05-onblue" descr=""/>
          <p:cNvPicPr/>
          <p:nvPr/>
        </p:nvPicPr>
        <p:blipFill>
          <a:blip r:embed="rId2"/>
          <a:stretch/>
        </p:blipFill>
        <p:spPr>
          <a:xfrm>
            <a:off x="-9296280" y="5573880"/>
            <a:ext cx="9144000" cy="113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58053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urn your speakers on and press 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Copy%20of%20alpha-title-01-top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24680" y="5816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H="1">
            <a:off x="1370880" y="5610600"/>
            <a:ext cx="694692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faded tex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Copy%20of%20alpha-title-01-bot2" descr=""/>
          <p:cNvPicPr/>
          <p:nvPr/>
        </p:nvPicPr>
        <p:blipFill>
          <a:blip r:embed="rId1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1294560" y="124200"/>
            <a:ext cx="6946920" cy="11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faded tex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Copy%20of%20alpha-title-01-top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108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H="1">
            <a:off x="1261440" y="2085480"/>
            <a:ext cx="70128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awesom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7360" y="3467520"/>
            <a:ext cx="7861320" cy="75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51c7"/>
              </a:gs>
              <a:gs pos="50000">
                <a:srgbClr val="fefefe"/>
              </a:gs>
              <a:gs pos="100000">
                <a:srgbClr val="3551c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Narrow"/>
              </a:rPr>
              <a:t>www.</a:t>
            </a:r>
            <a:r>
              <a:rPr b="0" lang="en-GB" sz="4400" spc="-1" strike="noStrike">
                <a:solidFill>
                  <a:srgbClr val="ff0000"/>
                </a:solidFill>
                <a:latin typeface="Arial Narrow"/>
              </a:rPr>
              <a:t>awesome</a:t>
            </a:r>
            <a:r>
              <a:rPr b="0" lang="en-GB" sz="4400" spc="-1" strike="noStrike">
                <a:solidFill>
                  <a:srgbClr val="0000ff"/>
                </a:solidFill>
                <a:latin typeface="Arial Narrow"/>
              </a:rPr>
              <a:t>backgrounds</a:t>
            </a:r>
            <a:r>
              <a:rPr b="0" lang="en-GB" sz="4400" spc="-1" strike="noStrike">
                <a:solidFill>
                  <a:srgbClr val="ffffff"/>
                </a:solidFill>
                <a:latin typeface="Arial Narrow"/>
              </a:rPr>
              <a:t>.com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1308240" y="2314080"/>
            <a:ext cx="692424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you know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H="1">
            <a:off x="1492920" y="2314080"/>
            <a:ext cx="65599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you want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flipH="1">
            <a:off x="3385800" y="2314440"/>
            <a:ext cx="44629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some!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3360" y="2314440"/>
            <a:ext cx="300600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awe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1326600" y="1339920"/>
            <a:ext cx="690228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know</a:t>
            </a:r>
            <a:br>
              <a:rPr sz="12900"/>
            </a:br>
            <a:r>
              <a:rPr b="0" lang="en-GB" sz="106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want</a:t>
            </a:r>
            <a:br>
              <a:rPr sz="9600"/>
            </a:b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om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23800" y="4292640"/>
            <a:ext cx="20505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aw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hain-Links-01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pic>
        <p:nvPicPr>
          <p:cNvPr id="136" name="Chain-Links-01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  <p:pic>
        <p:nvPicPr>
          <p:cNvPr id="137" name="Chain-Links-01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533520" y="399960"/>
            <a:ext cx="8076960" cy="6058080"/>
          </a:xfrm>
          <a:prstGeom prst="rect">
            <a:avLst/>
          </a:prstGeom>
          <a:ln w="0">
            <a:noFill/>
          </a:ln>
        </p:spPr>
      </p:pic>
      <p:pic>
        <p:nvPicPr>
          <p:cNvPr id="138" name="Chain-Links-01" descr=""/>
          <p:cNvPicPr/>
          <p:nvPr/>
        </p:nvPicPr>
        <p:blipFill>
          <a:blip r:embed="rId4">
            <a:lum bright="48000"/>
          </a:blip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39" name="Chain-Links-01" descr=""/>
          <p:cNvPicPr/>
          <p:nvPr/>
        </p:nvPicPr>
        <p:blipFill>
          <a:blip r:embed="rId5">
            <a:lum bright="60000"/>
          </a:blip>
          <a:stretch/>
        </p:blipFill>
        <p:spPr>
          <a:xfrm>
            <a:off x="838080" y="62856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1326600" y="1339920"/>
            <a:ext cx="6902280" cy="40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know</a:t>
            </a:r>
            <a:br>
              <a:rPr sz="12900"/>
            </a:br>
            <a:r>
              <a:rPr b="0" lang="en-GB" sz="106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want</a:t>
            </a:r>
            <a:br>
              <a:rPr sz="9600"/>
            </a:br>
            <a:r>
              <a:rPr b="0" lang="en-GB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ome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23800" y="4292640"/>
            <a:ext cx="20505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aw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hain-Links-01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Chain-Links-01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228600" y="165240"/>
            <a:ext cx="8686800" cy="6514920"/>
          </a:xfrm>
          <a:prstGeom prst="rect">
            <a:avLst/>
          </a:prstGeom>
          <a:ln w="0">
            <a:noFill/>
          </a:ln>
        </p:spPr>
      </p:pic>
      <p:pic>
        <p:nvPicPr>
          <p:cNvPr id="144" name="Chain-Links-01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457200" y="33660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145" name="Chain-Links-01" descr=""/>
          <p:cNvPicPr/>
          <p:nvPr/>
        </p:nvPicPr>
        <p:blipFill>
          <a:blip r:embed="rId4"/>
          <a:stretch/>
        </p:blipFill>
        <p:spPr>
          <a:xfrm>
            <a:off x="685800" y="507960"/>
            <a:ext cx="7772400" cy="5829480"/>
          </a:xfrm>
          <a:prstGeom prst="rect">
            <a:avLst/>
          </a:prstGeom>
          <a:ln w="0">
            <a:noFill/>
          </a:ln>
        </p:spPr>
      </p:pic>
      <p:pic>
        <p:nvPicPr>
          <p:cNvPr id="146" name="Chain-Links-01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679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1326600" y="2571120"/>
            <a:ext cx="690228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Arial"/>
              </a:rPr>
              <a:t>are you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H="1">
            <a:off x="990000" y="396360"/>
            <a:ext cx="694692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200" spc="-1" strike="noStrike">
                <a:solidFill>
                  <a:srgbClr val="67a5ff"/>
                </a:solidFill>
                <a:latin typeface="Arial"/>
              </a:rPr>
              <a:t>?</a:t>
            </a:r>
            <a:endParaRPr b="0" lang="en-US" sz="5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218600" y="2253960"/>
            <a:ext cx="69469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900" spc="-1" strike="noStrike">
                <a:solidFill>
                  <a:srgbClr val="ffffff"/>
                </a:solidFill>
                <a:latin typeface="Arial"/>
              </a:rPr>
              <a:t>ready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2480" y="609480"/>
            <a:ext cx="5639040" cy="56390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18600" y="2285640"/>
            <a:ext cx="69469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9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01000" y="2895480"/>
            <a:ext cx="5892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 Black"/>
              </a:rPr>
              <a:t>professional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96280" y="1905120"/>
            <a:ext cx="838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This page plays a small looping music sam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52480" y="609480"/>
            <a:ext cx="5639040" cy="5639040"/>
          </a:xfrm>
          <a:prstGeom prst="octagon">
            <a:avLst>
              <a:gd name="adj" fmla="val 29287"/>
            </a:avLst>
          </a:prstGeom>
          <a:solidFill>
            <a:srgbClr val="339933"/>
          </a:solidFill>
          <a:ln w="152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37360" y="2285640"/>
            <a:ext cx="69469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86656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3db73d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900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4ec44e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7000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6ace6a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92064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8dd98d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27164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a3e1a3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62228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c6ecc6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97328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dff5df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24280" y="2285640"/>
            <a:ext cx="668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64360" y="488880"/>
            <a:ext cx="4520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creativ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64360" y="488880"/>
            <a:ext cx="4520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Black"/>
              </a:rPr>
              <a:t>creativ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98600" y="2560320"/>
            <a:ext cx="99144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5440" y="380520"/>
            <a:ext cx="380160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style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8320" y="4647960"/>
            <a:ext cx="512280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ffffff"/>
                </a:solidFill>
                <a:latin typeface="Arial"/>
              </a:rPr>
              <a:t>designs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5791320" y="2209320"/>
            <a:ext cx="55357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700" spc="-1" strike="noStrike">
                <a:solidFill>
                  <a:srgbClr val="ffffff"/>
                </a:solidFill>
                <a:latin typeface="Arial"/>
              </a:rPr>
              <a:t>fantastic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2209320"/>
            <a:ext cx="553572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700" spc="-1" strike="noStrike">
                <a:solidFill>
                  <a:srgbClr val="ffffff"/>
                </a:solidFill>
                <a:latin typeface="Arial"/>
              </a:rPr>
              <a:t>fantastic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0760" y="228600"/>
            <a:ext cx="23598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68360" y="228600"/>
            <a:ext cx="32331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56560" y="5181480"/>
            <a:ext cx="1863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6920" y="5181480"/>
            <a:ext cx="205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240" y="5029200"/>
            <a:ext cx="273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240" y="3836880"/>
            <a:ext cx="273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240" y="2644920"/>
            <a:ext cx="273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1240" y="1452600"/>
            <a:ext cx="273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1240" y="258840"/>
            <a:ext cx="273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87960" y="1452600"/>
            <a:ext cx="15552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12800" y="2644920"/>
            <a:ext cx="22363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18400" y="3836880"/>
            <a:ext cx="15552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5029200"/>
            <a:ext cx="29815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Arial"/>
              </a:rPr>
              <a:t>crowd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5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49160" y="1249200"/>
            <a:ext cx="3915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800" spc="-1" strike="noStrike">
                <a:solidFill>
                  <a:srgbClr val="ffffff"/>
                </a:solidFill>
                <a:latin typeface="Arial"/>
              </a:rPr>
              <a:t>imagin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08600" y="2430360"/>
            <a:ext cx="15552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8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3611520"/>
            <a:ext cx="41018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8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
Messages do not appear on the full product.</dc:description>
  <dc:language>en-US</dc:language>
  <cp:lastModifiedBy>TAJ Simmons</cp:lastModifiedBy>
  <dcterms:modified xsi:type="dcterms:W3CDTF">2005-05-19T16:50:56Z</dcterms:modified>
  <cp:revision>102</cp:revision>
  <dc:subject>Text Effects</dc:subject>
  <dc:title>Free Sample Awesome PowerPoint Background Template</dc:title>
</cp:coreProperties>
</file>