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64D41727-4BA1-4EC9-8457-C6DB39C03431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wesomebackgrounds.com/" TargetMode="External"/><Relationship Id="rId2" Type="http://schemas.openxmlformats.org/officeDocument/2006/relationships/hyperlink" Target="http://www.awesomebackgrounds.com/" TargetMode="External"/><Relationship Id="rId3" Type="http://schemas.openxmlformats.org/officeDocument/2006/relationships/hyperlink" Target="http://www.awesomebackgrounds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tutorial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v6-all05-onblu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ffee1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800440" cy="501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Show me the differenc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67616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page contains a picture that is using 24bit (16m colou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oks pretty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 can almost taste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ffee2" descr=""/>
          <p:cNvPicPr/>
          <p:nvPr/>
        </p:nvPicPr>
        <p:blipFill>
          <a:blip r:embed="rId1"/>
          <a:stretch/>
        </p:blipFill>
        <p:spPr>
          <a:xfrm>
            <a:off x="5487840" y="1371600"/>
            <a:ext cx="2799000" cy="501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Show me the differenc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page contains a picture that is using 8bit (256 colou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ill looks pretty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267080"/>
            <a:ext cx="42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9900"/>
                </a:solidFill>
                <a:latin typeface="Arial"/>
              </a:rPr>
              <a:t>Now lets compare them on the same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ffee1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800440" cy="501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533160"/>
            <a:ext cx="4267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6million col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533160"/>
            <a:ext cx="4267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6 col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2400120" y="2476440"/>
            <a:ext cx="426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 any differenc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v6-all05-onblue" descr=""/>
          <p:cNvPicPr/>
          <p:nvPr/>
        </p:nvPicPr>
        <p:blipFill>
          <a:blip r:embed="rId2"/>
          <a:stretch/>
        </p:blipFill>
        <p:spPr>
          <a:xfrm>
            <a:off x="-7296120" y="5105520"/>
            <a:ext cx="7219800" cy="893520"/>
          </a:xfrm>
          <a:prstGeom prst="rect">
            <a:avLst/>
          </a:prstGeom>
          <a:ln w="0">
            <a:noFill/>
          </a:ln>
        </p:spPr>
      </p:pic>
      <p:pic>
        <p:nvPicPr>
          <p:cNvPr id="56" name="coffee2" descr=""/>
          <p:cNvPicPr/>
          <p:nvPr/>
        </p:nvPicPr>
        <p:blipFill>
          <a:blip r:embed="rId3"/>
          <a:stretch/>
        </p:blipFill>
        <p:spPr>
          <a:xfrm>
            <a:off x="5487840" y="1371600"/>
            <a:ext cx="2799000" cy="501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at’s the end of this tutorial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tutorial uses the “etched” background from the “blue1”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awesomebackgrounds.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v6-all05-onblue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</dc:creator>
  <dc:description>From
www.awesomebackgrounds.com   </dc:description>
  <dc:language>en-US</dc:language>
  <cp:lastModifiedBy>TAJ Simmons</cp:lastModifiedBy>
  <dcterms:modified xsi:type="dcterms:W3CDTF">2005-05-19T16:49:32Z</dcterms:modified>
  <cp:revision>38</cp:revision>
  <dc:subject/>
  <dc:title>Awesome PowerPoint Background Template</dc:title>
</cp:coreProperties>
</file>