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tche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Slide </a:t>
            </a:r>
            <a:fld id="{332B2432-9405-44AB-B7FA-D0CBEEEBA37A}" type="slidenum">
              <a:rPr b="0" lang="en-GB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etche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137160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‘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m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’ page must have the same information on every presentation. Think of it as a common logo or theme that brings together all the present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" name="v6-all05-onblu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3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1447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lcome to this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utorial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ww.awesomebackgrounds.c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 hope you enjoy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Presentation Master 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ook at the next page to see how the looped presentation is linked into this master present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ss “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sc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” to exit from the looped pres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etche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37160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‘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m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’ page must have the same information on every presentation. Think of it as a common logo or theme that brings together all the present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296280" y="144792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his icon loads Looping.pp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448920" y="2971800"/>
            <a:ext cx="1047600" cy="590400"/>
          </a:xfrm>
          <a:prstGeom prst="rect">
            <a:avLst/>
          </a:prstGeom>
          <a:ln w="0">
            <a:noFill/>
          </a:ln>
        </p:spPr>
      </p:pic>
      <p:pic>
        <p:nvPicPr>
          <p:cNvPr id="51" name="v6-all05-onblue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131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71600" y="1447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You could include the rest of your presentation in this file if there is only one 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The Rest of the Presentation 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r use the linking method on the next page if you have lots of presen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etche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37160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‘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m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’ page must have the same information on every presentation. Think of it as a common logo or theme that brings together all the present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296280" y="144792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his icon loads linked</a:t>
            </a:r>
            <a:r>
              <a:rPr b="1" lang="en-US" sz="1800" spc="-1" strike="noStrike">
                <a:solidFill>
                  <a:srgbClr val="66ccff"/>
                </a:solidFill>
                <a:latin typeface="Arial Narrow"/>
              </a:rPr>
              <a:t>01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.pp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372600" y="3124080"/>
            <a:ext cx="1047600" cy="590760"/>
          </a:xfrm>
          <a:prstGeom prst="rect">
            <a:avLst/>
          </a:prstGeom>
          <a:ln w="0">
            <a:noFill/>
          </a:ln>
        </p:spPr>
      </p:pic>
      <p:pic>
        <p:nvPicPr>
          <p:cNvPr id="60" name="v6-all05-onblue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131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etche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37160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‘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m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’ page must have the same information on every presentation. Think of it as a common logo or theme that brings together all the present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v6-all05-onblu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31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awesomebackgrounds.com   </dc:description>
  <dc:language>en-US</dc:language>
  <cp:lastModifiedBy>TAJ Simmons</cp:lastModifiedBy>
  <dcterms:modified xsi:type="dcterms:W3CDTF">2005-05-19T16:46:09Z</dcterms:modified>
  <cp:revision>49</cp:revision>
  <dc:subject/>
  <dc:title>Awesome PowerPoint Background Template</dc:title>
</cp:coreProperties>
</file>