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Slide </a:t>
            </a:r>
            <a:fld id="{83683B7B-C689-4F03-AC11-0447F8C33AD4}" type="slidenum">
              <a:rPr b="0" lang="en-GB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ooped Presentatio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20320" y="449568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0" y="129528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276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Our Sponsor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0384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best powerpoint backgrounds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9220320" y="16765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fferent Option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ext pages in this presentation could be sponsors logos fo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page explaining when the presentation will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362320"/>
            <a:ext cx="7315200" cy="2057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he Next Presentation Will Start At: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7010640" cy="1752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700" spc="-1" strike="noStrike">
                <a:solidFill>
                  <a:srgbClr val="ffffff"/>
                </a:solidFill>
                <a:latin typeface="Arial"/>
              </a:rPr>
              <a:t>10:30am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0" y="16765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276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Our Sponsor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best powerpoint backgrounds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220320" y="538956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How To Make This Loop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this presentation to “Loop continuously until Esc” by clicking on the “Slide show” menu, then select “Set Up Sh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 “Advance slides” set the presentation to “Use timings, if pres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How Long For Each Slide?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ain on the “Slide show” menu, choose “Slide Transi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van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each slide to advance after 5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pages with a lot of information to be on longer, say 15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 the “On mouse click” on to give you the option of moving quickly through this presentation by pressing the right cursor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</dc:description>
  <dc:language>en-US</dc:language>
  <cp:lastModifiedBy>TAJ Simmons</cp:lastModifiedBy>
  <dcterms:modified xsi:type="dcterms:W3CDTF">2005-05-19T16:45:48Z</dcterms:modified>
  <cp:revision>41</cp:revision>
  <dc:subject/>
  <dc:title>Awesome PowerPoint Background Template</dc:title>
</cp:coreProperties>
</file>