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77118F4A-D0E5-482D-83F6-82DA52EFA5D0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v6-all05-onblu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utori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awesomebackgrounds.c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Linked Presentation Number 1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v6-all05-onblu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</dc:description>
  <dc:language>en-US</dc:language>
  <cp:lastModifiedBy>TAJ Simmons</cp:lastModifiedBy>
  <dcterms:modified xsi:type="dcterms:W3CDTF">2005-05-19T16:45:02Z</dcterms:modified>
  <cp:revision>34</cp:revision>
  <dc:subject/>
  <dc:title>Awesome PowerPoint Background Template</dc:title>
</cp:coreProperties>
</file>