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F396B0AF-E14D-4AF5-A1B0-CB40E9319A7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resentation Master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he next page to see how the other presentations are linked into this maste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448920" y="2819520"/>
            <a:ext cx="1047600" cy="59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inked01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inked</a:t>
            </a:r>
            <a:r>
              <a:rPr b="1" lang="en-US" sz="1800" spc="-1" strike="noStrike">
                <a:solidFill>
                  <a:srgbClr val="66ccff"/>
                </a:solidFill>
                <a:latin typeface="Arial Narrow"/>
              </a:rPr>
              <a:t>02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296280" y="2895480"/>
            <a:ext cx="1047960" cy="590760"/>
          </a:xfrm>
          <a:prstGeom prst="rect">
            <a:avLst/>
          </a:prstGeom>
          <a:ln w="0">
            <a:noFill/>
          </a:ln>
        </p:spPr>
      </p:pic>
      <p:pic>
        <p:nvPicPr>
          <p:cNvPr id="56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40:55Z</dcterms:modified>
  <cp:revision>40</cp:revision>
  <dc:subject/>
  <dc:title>PowerPoint Background Template</dc:title>
</cp:coreProperties>
</file>