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50021"/>
                </a:solidFill>
                <a:latin typeface="Arial"/>
              </a:rPr>
              <a:t>Slide </a:t>
            </a:r>
            <a:fld id="{DBD61484-3FBE-469B-86A9-00754367E8ED}" type="slidenum">
              <a:rPr b="0" lang="en-GB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utori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awesome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Linked Presentation Number 2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a50021"/>
          </a:solid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a50021"/>
          </a:solid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a50021"/>
          </a:solid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a50021"/>
          </a:solid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05-05-19T16:40:33Z</dcterms:modified>
  <cp:revision>37</cp:revision>
  <dc:subject/>
  <dc:title>Awesome PowerPoint Background Template</dc:title>
</cp:coreProperties>
</file>