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083958D5-B269-4446-AC9E-3043856EF5CB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Linked Presentation Number 1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5-05-19T16:40:16Z</dcterms:modified>
  <cp:revision>36</cp:revision>
  <dc:subject/>
  <dc:title>Awesome PowerPoint Background Template</dc:title>
</cp:coreProperties>
</file>