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16720" y="12600"/>
            <a:ext cx="256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1999-2005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FBBBEB10-5A06-4A9D-AA19-411DBDCA54C7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resentation ‘Master’ Show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he next page to see how the other presentations are linked into this maste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96360" y="836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This link icon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automatically shows a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alled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Arial Narrow"/>
              </a:rPr>
              <a:t>Linked01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612360" y="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2880" y="1905120"/>
            <a:ext cx="813456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5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2060640"/>
            <a:ext cx="78483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3240" y="2124000"/>
            <a:ext cx="4532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Coffee Break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7636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155736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 Narrow"/>
              </a:rPr>
              <a:t>ANNUAL SALES MEET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25080" y="836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This link icon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automatically shows a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alled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Arial Narrow"/>
              </a:rPr>
              <a:t>Linked02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468000" y="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2880" y="1905120"/>
            <a:ext cx="813456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3886200"/>
            <a:ext cx="864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© 1999-2005 – By Defa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awesomebackgrounds.com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653000"/>
            <a:ext cx="8280360" cy="792000"/>
          </a:xfrm>
          <a:prstGeom prst="rect">
            <a:avLst/>
          </a:prstGeom>
          <a:noFill/>
          <a:ln w="936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2060640"/>
            <a:ext cx="78483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3240" y="2124000"/>
            <a:ext cx="4532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6:23:44Z</dcterms:modified>
  <cp:revision>54</cp:revision>
  <dc:subject/>
  <dc:title>FREE Sample Awesome PowerPoint Background Template</dc:title>
</cp:coreProperties>
</file>