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cc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84720" y="12600"/>
            <a:ext cx="2995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10"/>
                </a:solidFill>
                <a:latin typeface="Arial"/>
              </a:rPr>
              <a:t>© 1999-2005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Slide </a:t>
            </a:r>
            <a:fld id="{5C1C91D1-8C8B-460F-B925-82FD795B43CF}" type="slidenum">
              <a:rPr b="0" lang="en-GB" sz="1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cc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76360" y="3885840"/>
            <a:ext cx="6400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3280" cy="1039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1280" y="1557360"/>
            <a:ext cx="792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 Narrow"/>
              </a:rPr>
              <a:t>ANNUAL SALES MEETING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cc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1268280"/>
            <a:ext cx="7238880" cy="2084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65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2640"/>
            <a:ext cx="6934320" cy="1787400"/>
          </a:xfrm>
          <a:prstGeom prst="rect">
            <a:avLst/>
          </a:prstGeom>
          <a:gradFill rotWithShape="0">
            <a:gsLst>
              <a:gs pos="0">
                <a:srgbClr val="7f00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inked02” Presentation Titl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cc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cc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cc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cc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cc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10800000"/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10800000"/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10800000"/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10800000"/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cc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476360" y="3885840"/>
            <a:ext cx="6400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3280" cy="1039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1280" y="1557360"/>
            <a:ext cx="792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 Narrow"/>
              </a:rPr>
              <a:t>ANNUAL SALES MEETING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
Messages do not appear on the full product.</dc:description>
  <dc:language>en-US</dc:language>
  <cp:lastModifiedBy>TAJ Simmons</cp:lastModifiedBy>
  <dcterms:modified xsi:type="dcterms:W3CDTF">2005-05-19T16:23:11Z</dcterms:modified>
  <cp:revision>36</cp:revision>
  <dc:subject/>
  <dc:title>FREE Sample Awesome PowerPoint Background Template</dc:title>
</cp:coreProperties>
</file>