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43268208-0D02-4AE6-9EF1-0592D95323B0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981080"/>
            <a:ext cx="723888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9240" y="2289600"/>
            <a:ext cx="6621840" cy="754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inked01” Presentation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5"/>
              </a:gs>
              <a:gs pos="100000">
                <a:srgbClr val="0066ff"/>
              </a:gs>
            </a:gsLst>
            <a:lin ang="13500000"/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5"/>
              </a:gs>
              <a:gs pos="100000">
                <a:srgbClr val="0066ff"/>
              </a:gs>
            </a:gsLst>
            <a:lin ang="13500000"/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5"/>
              </a:gs>
              <a:gs pos="100000">
                <a:srgbClr val="0066ff"/>
              </a:gs>
            </a:gsLst>
            <a:lin ang="13500000"/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5"/>
              </a:gs>
              <a:gs pos="100000">
                <a:srgbClr val="0066ff"/>
              </a:gs>
            </a:gsLst>
            <a:lin ang="13500000"/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7636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155736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 Narrow"/>
              </a:rPr>
              <a:t>ANNUAL SALES MEET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6:22:38Z</dcterms:modified>
  <cp:revision>35</cp:revision>
  <dc:subject/>
  <dc:title>FREE Sample Awesome PowerPoint Background Template</dc:title>
</cp:coreProperties>
</file>