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F48E8C04-4992-4BC6-BD62-E065501FF6D8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Presentation Master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k at the next page to see how the looped presentation is linked into this master pres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s “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s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 to exit from the looped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ooping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448920" y="2971800"/>
            <a:ext cx="1047600" cy="590400"/>
          </a:xfrm>
          <a:prstGeom prst="rect">
            <a:avLst/>
          </a:prstGeom>
          <a:ln w="0">
            <a:noFill/>
          </a:ln>
        </p:spPr>
      </p:pic>
      <p:pic>
        <p:nvPicPr>
          <p:cNvPr id="51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could include the rest of your presentation in this file if there is only on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The Rest of the Presentation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use the linking method on the next page if you have lots of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96280" y="14479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his icon loads linked</a:t>
            </a:r>
            <a:r>
              <a:rPr b="1" lang="en-US" sz="1800" spc="-1" strike="noStrike">
                <a:solidFill>
                  <a:srgbClr val="66ccff"/>
                </a:solidFill>
                <a:latin typeface="Arial Narrow"/>
              </a:rPr>
              <a:t>01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.p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372600" y="3124080"/>
            <a:ext cx="104760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v6-all05-onblu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   </dc:description>
  <dc:language>en-US</dc:language>
  <cp:lastModifiedBy>TAJ Simmons</cp:lastModifiedBy>
  <dcterms:modified xsi:type="dcterms:W3CDTF">2005-05-19T16:46:09Z</dcterms:modified>
  <cp:revision>49</cp:revision>
  <dc:subject/>
  <dc:title>Awesome PowerPoint Background Template</dc:title>
</cp:coreProperties>
</file>