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tche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0760" y="12600"/>
            <a:ext cx="182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04720610-78F1-40DF-A7BC-EF44E88DF97A}" type="slidenum">
              <a:rPr b="0" lang="en-GB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lcome to this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utori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ww.awesomebackgrounds.c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 hope you enjoy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Linked Presentation Number 1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ullet Lis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template first save this presentation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, Save 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give it a new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simply copy each page that you need before you edi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 if you need another bullet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the “Insert” menu ab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ick on “Duplicate Slid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ame applies for the Bars, Pies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Bar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Line Graph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Pie Char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65080" y="1398600"/>
          <a:ext cx="75470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398600"/>
                    <a:ext cx="75470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066680" y="6324480"/>
            <a:ext cx="25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urce: Market Re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46440" y="1981080"/>
            <a:ext cx="0" cy="17528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048120"/>
            <a:ext cx="5562720" cy="761760"/>
          </a:xfrm>
          <a:custGeom>
            <a:avLst/>
            <a:gdLst/>
            <a:ahLst/>
            <a:rect l="l" t="t" r="r" b="b"/>
            <a:pathLst>
              <a:path w="3504" h="480">
                <a:moveTo>
                  <a:pt x="0" y="432"/>
                </a:moveTo>
                <a:lnTo>
                  <a:pt x="0" y="0"/>
                </a:lnTo>
                <a:lnTo>
                  <a:pt x="3504" y="0"/>
                </a:lnTo>
                <a:lnTo>
                  <a:pt x="3504" y="480"/>
                </a:lnTo>
              </a:path>
            </a:pathLst>
          </a:custGeom>
          <a:noFill/>
          <a:ln w="381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t" anchorCtr="1">
            <a:noAutofit/>
          </a:bodyPr>
          <a:p>
            <a:pPr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040" y="1537560"/>
            <a:ext cx="281916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nag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442680"/>
            <a:ext cx="198144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le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0344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eting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remia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442680"/>
            <a:ext cx="2286000" cy="715320"/>
          </a:xfrm>
          <a:prstGeom prst="rect">
            <a:avLst/>
          </a:prstGeom>
          <a:solidFill>
            <a:srgbClr val="0066ff"/>
          </a:solidFill>
          <a:ln w="28440">
            <a:solidFill>
              <a:srgbClr val="3399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spAutoFit/>
          </a:bodyPr>
          <a:p>
            <a:pPr algn="ctr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ributio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i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etche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7160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’ page must have the same information on every presentation. Think of it as a common logo or theme that brings together all the presen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v6-all05-onblu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1:52:41Z</dcterms:created>
  <dc:creator>TAJ Simmons</dc:creator>
  <dc:description>From
www.awesomebackgrounds.com</dc:description>
  <dc:language>en-US</dc:language>
  <cp:lastModifiedBy>TAJ Simmons</cp:lastModifiedBy>
  <dcterms:modified xsi:type="dcterms:W3CDTF">2005-05-19T16:45:02Z</dcterms:modified>
  <cp:revision>34</cp:revision>
  <dc:subject/>
  <dc:title>Awesome PowerPoint Background Template</dc:title>
</cp:coreProperties>
</file>